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4.png" ContentType="image/png"/>
  <Override PartName="/ppt/media/image13.png" ContentType="image/png"/>
  <Override PartName="/ppt/media/image5.png" ContentType="image/png"/>
  <Override PartName="/ppt/media/password.wav" ContentType="audio/x-wav"/>
  <Override PartName="/ppt/media/image10.png" ContentType="image/png"/>
  <Override PartName="/ppt/media/image2.jpeg" ContentType="image/jpeg"/>
  <Override PartName="/ppt/media/image9.png" ContentType="image/png"/>
  <Override PartName="/ppt/media/buzzer.wav" ContentType="audio/x-wav"/>
  <Override PartName="/ppt/media/image6.png" ContentType="image/png"/>
  <Override PartName="/ppt/media/image11.png" ContentType="image/png"/>
  <Override PartName="/ppt/media/image15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CF24-A575-4AB0-B9BD-55C38C2D0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5947-A65B-4FB4-8EF9-F73166E3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8B15-9946-4CFA-B217-8BF08E06E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48A7-A493-46CA-BD10-C6B0896C8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E8F2-F3C3-428A-A61C-17A61D44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BEBA-C9CD-40D1-BD8C-0F90914B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A06E-DAB4-424F-99AA-699FDE96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11FF-591C-4FFF-BA44-A8C0FBDD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30EE-77A1-4D22-9B83-A5CA09AF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1737-027E-42C0-B666-0EDA50F3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F28D-D678-4E1F-8E15-34168748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AC80-D052-41EB-8660-B7D1B8DB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5948-195B-49AA-9FD7-43FBB3CC420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4"/>
          <p:cNvSpPr/>
          <p:nvPr/>
        </p:nvSpPr>
        <p:spPr>
          <a:xfrm>
            <a:off x="-2514600" y="1371600"/>
            <a:ext cx="365760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-21453" y="2368"/>
                </a:moveTo>
                <a:cubicBezTo>
                  <a:pt x="-9409" y="7280"/>
                  <a:pt x="-1536" y="18993"/>
                  <a:pt x="-1536" y="32000"/>
                </a:cubicBezTo>
                <a:cubicBezTo>
                  <a:pt x="-1536" y="-20530"/>
                  <a:pt x="-9409" y="-8817"/>
                  <a:pt x="-21453" y="-3905"/>
                </a:cubicBezTo>
                <a:cubicBezTo>
                  <a:pt x="-21454" y="-3905"/>
                  <a:pt x="-21454" y="-3905"/>
                  <a:pt x="-21454" y="-3905"/>
                </a:cubicBezTo>
                <a:lnTo>
                  <a:pt x="-21453" y="-3904"/>
                </a:lnTo>
                <a:lnTo>
                  <a:pt x="-21453" y="2368"/>
                </a:lnTo>
                <a:lnTo>
                  <a:pt x="-21454" y="2368"/>
                </a:lnTo>
                <a:cubicBezTo>
                  <a:pt x="-21454" y="2368"/>
                  <a:pt x="-21454" y="2368"/>
                  <a:pt x="-21453" y="2368"/>
                </a:cubicBez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-3222720" y="304920"/>
            <a:ext cx="4038840" cy="403848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-14542" y="6246"/>
                </a:moveTo>
                <a:cubicBezTo>
                  <a:pt x="-6364" y="12279"/>
                  <a:pt x="-1536" y="21837"/>
                  <a:pt x="-1536" y="32000"/>
                </a:cubicBezTo>
                <a:cubicBezTo>
                  <a:pt x="-1536" y="-23374"/>
                  <a:pt x="-6364" y="-13816"/>
                  <a:pt x="-14542" y="-7783"/>
                </a:cubicBezTo>
                <a:cubicBezTo>
                  <a:pt x="-14543" y="-7783"/>
                  <a:pt x="-14543" y="-7783"/>
                  <a:pt x="-14543" y="-7783"/>
                </a:cubicBezTo>
                <a:lnTo>
                  <a:pt x="-14542" y="-7782"/>
                </a:lnTo>
                <a:lnTo>
                  <a:pt x="-14542" y="6246"/>
                </a:lnTo>
                <a:lnTo>
                  <a:pt x="-14543" y="6246"/>
                </a:lnTo>
                <a:cubicBezTo>
                  <a:pt x="-14543" y="6246"/>
                  <a:pt x="-14543" y="6246"/>
                  <a:pt x="-14542" y="6246"/>
                </a:cubicBez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password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6002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Vocabulary Review Activ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6" descr="shh"/>
          <p:cNvPicPr/>
          <p:nvPr/>
        </p:nvPicPr>
        <p:blipFill>
          <a:blip r:embed="rId1"/>
          <a:stretch/>
        </p:blipFill>
        <p:spPr>
          <a:xfrm>
            <a:off x="3657600" y="4572000"/>
            <a:ext cx="2057400" cy="1863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password1"/>
          <p:cNvPicPr/>
          <p:nvPr/>
        </p:nvPicPr>
        <p:blipFill>
          <a:blip r:embed="rId2"/>
          <a:stretch/>
        </p:blipFill>
        <p:spPr>
          <a:xfrm>
            <a:off x="1447920" y="1905120"/>
            <a:ext cx="5981760" cy="1562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3" name="passwor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21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22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24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6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8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80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2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40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41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43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8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2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59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60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62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400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80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600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800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200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78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79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81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400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8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80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20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97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98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300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60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80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800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000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2000"/>
                            </p:stCondLst>
                            <p:childTnLst>
                              <p:par>
                                <p:cTn id="4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tup Directions: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523520"/>
            <a:ext cx="7313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ype a vocabulary word on each of the following 10 slides in the subtitle textbox.  When complete, run the show by pressing F5 on the keyboar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ne student stands with back to this present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class gives the student clues to the vocabulary word onscreen as a clock keeps tim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student tries to guess the word before the buzze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6699"/>
                </a:solidFill>
                <a:latin typeface="Arial"/>
              </a:rPr>
              <a:t>Ready to play?</a:t>
            </a:r>
            <a:endParaRPr b="0" lang="en-US" sz="6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91" name="Picture 4" descr="password"/>
          <p:cNvPicPr/>
          <p:nvPr/>
        </p:nvPicPr>
        <p:blipFill>
          <a:blip r:embed="rId1"/>
          <a:stretch/>
        </p:blipFill>
        <p:spPr>
          <a:xfrm>
            <a:off x="2514600" y="2209680"/>
            <a:ext cx="441000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5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6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7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21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08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10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6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8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2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27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29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4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6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8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46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48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8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64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65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67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2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84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0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2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4" descr="clock12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clock1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clock2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clock3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clock4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clock5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clock6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1" descr="clock7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2" descr="clock8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3" descr="clock9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clock10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5" descr="clock11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6" descr="clock12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17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03" name="Picture 18" descr="password1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19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05" name="Text Box 20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80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60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20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4T00:20:42Z</dcterms:created>
  <dc:creator>Connie Campbell</dc:creator>
  <dc:description/>
  <dc:language>en-US</dc:language>
  <cp:lastModifiedBy>jskidd</cp:lastModifiedBy>
  <dcterms:modified xsi:type="dcterms:W3CDTF">2009-11-13T20:14:20Z</dcterms:modified>
  <cp:revision>8</cp:revision>
  <dc:subject/>
  <dc:title>Password</dc:title>
</cp:coreProperties>
</file>